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wmf" ContentType="image/x-wmf"/>
  <Override PartName="/ppt/media/image5.wmf" ContentType="image/x-wmf"/>
  <Override PartName="/ppt/media/glass.wav" ContentType="audio/x-wav"/>
  <Override PartName="/ppt/media/applause.wav" ContentType="audio/x-wav"/>
  <Override PartName="/ppt/media/whoosh.wav" ContentType="audio/x-wav"/>
  <Override PartName="/ppt/media/image10.jpeg" ContentType="image/jpeg"/>
  <Override PartName="/ppt/media/image7.wmf" ContentType="image/x-wmf"/>
  <Override PartName="/ppt/media/chimes.wav" ContentType="audio/x-wav"/>
  <Override PartName="/ppt/media/gunshot.wav" ContentType="audio/x-wav"/>
  <Override PartName="/ppt/media/image2.jpeg" ContentType="image/jpeg"/>
  <Override PartName="/ppt/media/image4.jpeg" ContentType="image/jpeg"/>
  <Override PartName="/ppt/media/image15.gif" ContentType="image/gif"/>
  <Override PartName="/ppt/media/carbrake.wav" ContentType="audio/x-wav"/>
  <Override PartName="/ppt/media/image3.jpeg" ContentType="image/jpeg"/>
  <Override PartName="/ppt/media/image14.png" ContentType="image/png"/>
  <Override PartName="/ppt/media/image13.jpeg" ContentType="image/jpeg"/>
  <Override PartName="/ppt/media/type.wav" ContentType="audio/x-wav"/>
  <Override PartName="/ppt/media/laser.wav" ContentType="audio/x-wav"/>
  <Override PartName="/ppt/media/image11.jpeg" ContentType="image/jpeg"/>
  <Override PartName="/ppt/media/image9.jpeg" ContentType="image/jpeg"/>
  <Override PartName="/ppt/media/camera.wav" ContentType="audio/x-wav"/>
  <Override PartName="/ppt/media/cashreg.wav" ContentType="audio/x-wav"/>
  <Override PartName="/ppt/media/image8.wmf" ContentType="image/x-wmf"/>
  <Override PartName="/ppt/media/image1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162A-D44C-477C-9356-311D5BF3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0BC1-72DB-4D70-9AD6-8B7644EF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6DE-4D8D-47FB-9F2F-0C414031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524C-109A-416B-A41B-9E6FDCF7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6A98-52C7-4C3B-B47A-EEC54241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1FA5-604D-4ECC-B862-6F658B46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AEC9-0D1C-4B3D-8D5D-A0C51343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7192-C8F9-4A3A-8725-86B57289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1424-3C6E-4D16-8192-4FC71423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3465-E32C-44DC-AAF8-650D3DBE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ECB3-48D1-4873-BB21-76D9DB44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DCF-6883-4ABB-B9AC-4A433EAC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E61B-9755-4C87-8BDC-94E8238D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ADD3-5117-421B-AF5F-50907FD3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4B7D-70DE-4C6C-A3C1-68D1A562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305C-EA6D-4D1A-9F3E-60788F21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40CF-7D14-4FA8-880A-32EEF334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EF3-FCA4-447E-941F-E8E21EFB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AD2-1013-42C8-9AD1-77C6EE73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17D-8B85-491A-AA8E-604DFC5C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042-80E5-4AA9-918B-9E910C26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32B-0AC6-49CF-B284-955482B6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B8F-2961-4573-AD5D-72DECCD4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B74-DDEB-4BB3-A135-104CE5C1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8B64-896C-4F76-9942-46C6B6C8EC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C25F-DC53-416F-A373-6A87133613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271B-0CEE-4D2B-9786-362E00F52D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43D8-96D9-462E-8888-78294783C5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applaus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gunshot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audio" Target="../media/whoosh.wav"/><Relationship Id="rId6" Type="http://schemas.openxmlformats.org/officeDocument/2006/relationships/audio" Target="../media/glass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66"/>
                </a:solidFill>
                <a:latin typeface="方正舒体"/>
                <a:ea typeface="隶书"/>
              </a:rPr>
              <a:t>与不良的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42667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ff"/>
                </a:solidFill>
                <a:latin typeface="宋体"/>
              </a:rPr>
              <a:t>      ——</a:t>
            </a:r>
            <a:r>
              <a:rPr b="1" i="1" lang="zh-CN" sz="4000" spc="-1" strike="noStrike">
                <a:solidFill>
                  <a:srgbClr val="ff00ff"/>
                </a:solidFill>
                <a:latin typeface="宋体"/>
              </a:rPr>
              <a:t>做一名合格的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2057400"/>
            <a:ext cx="568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66"/>
                </a:solidFill>
                <a:latin typeface="方正舒体"/>
                <a:ea typeface="隶书"/>
              </a:rPr>
              <a:t>行为习惯告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A16F-BA66-4160-B6BE-046BC0E47DD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A5C3F42-C497-42F9-AB32-E5F0A0F17E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班主任总结发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8280" y="4648320"/>
            <a:ext cx="679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总之：勿以恶小而为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                    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勿以善小而不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60400" y="471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41880" y="1085760"/>
            <a:ext cx="6439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最重要的是两种行为习惯不能养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即妨碍他人的行为习惯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                    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没有行为习惯的行为习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947-1272-4512-ACE3-B90F1373693F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C3A56-5215-445C-8F3E-3EEB71EB1D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989840" y="457200"/>
            <a:ext cx="5493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89840" y="411120"/>
            <a:ext cx="54936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98200" y="-2348640"/>
            <a:ext cx="1642680" cy="11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天高任鸟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        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海阔凭鱼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808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B99-FA79-4785-BBF4-C84DFA3F0EBC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24266-9A46-4360-AA0F-2B300453F7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828800" y="1752480"/>
            <a:ext cx="6400800" cy="24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谢谢指导！</a:t>
            </a:r>
            <a:endParaRPr b="1" lang="en-US" sz="6000" spc="1" strike="noStrike">
              <a:ln w="9360">
                <a:solidFill>
                  <a:srgbClr val="6600cc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804000" y="5562720"/>
            <a:ext cx="1871640" cy="129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E42-C3EE-4BC3-8788-C691FE9CC567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A3580-9673-46D5-9387-CAAE8F9E65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27080" y="227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25640" y="1395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什么是不良行为习惯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657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对自己和他人的身心有害，不利于自己和他人的身心健康；妨碍他人；影响自己和他人成长；不雅，有碍观瞻等等一些行为习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70FF-6BE6-4DB8-9461-82D230EC8E32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9A55A-ECCE-4256-A77F-40C8A09C57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9900"/>
                </a:solidFill>
                <a:latin typeface="Times New Roman"/>
              </a:rPr>
              <a:t>中学生常见的不良行为习惯有哪些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2120"/>
            <a:ext cx="883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66"/>
                </a:solidFill>
                <a:latin typeface="Times New Roman"/>
              </a:rPr>
              <a:t>就校内生活而言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课堂上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东张西望，精神不集中；不动手，不动脑，呆若木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不专心听讲，讲小话；老师或同学发言时，插嘴打浑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做跟课堂无关的事，涂鸦、写信、写字条，传送字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吃东西，喝水；跟同桌或前后左右桌的同学嬉戏玩耍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不做练习，不积极发言；不记笔记，不懂的知识不记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    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57200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课间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追逐打闹，大声喧哗，乱丢果皮纸屑，还有那令人厌恶的泡泡糖屑；说脏话，使用不文明语言；接水时，东张西望，水流得一地都是；用粉笔头掷人；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8F2-A6AA-4A77-998F-B5C6F162F18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EE27D-E33E-46BC-8F7B-E87C75BDAEBD}" type="datetime1">
              <a:rPr lang="en-US"/>
              <a:t>07/30/26</a:t>
            </a:fld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70360" y="-50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就校外生活而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996840"/>
            <a:ext cx="6629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不按时回家， 上学、放学路上追逐打闹；不遵守交通法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乘坐公交车不尊老爱幼，主动让座；不文明语言出口成“脏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抽烟、酗酒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打架斗殴；不遵守法令条规，进营业性舞厅、歌厅、网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回到家中，摆少爷、小姐脾气，不知老、不知幼，惟我独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书从来不看，字从来不写，父母的教诲——“最近 有点烦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D4D7-1960-4266-A66E-8BB3EE0F6EE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D4470-A979-4F73-AC04-D7498FEC0D42}" type="datetime1">
              <a:rPr lang="en-US"/>
              <a:t>07/30/26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宋体"/>
              </a:rPr>
              <a:t>童年的生活是美好的。然而，就是在这美好的生活中，由于我们的不注意：父母的娇纵、溺爱，自己对自己的放松、宽恕，同学之间潜移默化的影响，我们每位同学，都或多或少养成了一些不良的行为习惯。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我们都有哪些不良的行为习惯呢？如何纠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  <a:ea typeface="宋体"/>
              </a:rPr>
              <a:t>审视自己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5C8-D4EA-4496-9633-C617F7B606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9E5B2-DA94-41FC-BEEF-B5FD976B6663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现实生活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276720" cy="2590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887200" y="3040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922480" cy="2133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54760" y="5181480"/>
            <a:ext cx="1155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焦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95880" y="1600200"/>
            <a:ext cx="2743200" cy="19209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486040" y="1447560"/>
            <a:ext cx="3352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协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181480" y="373392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77960" y="4191120"/>
            <a:ext cx="72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方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97C-D7E8-47E5-909E-B00C82B9B55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BF6F6-588B-4E65-AA98-1C8DCD839861}" type="datetime1">
              <a:rPr lang="en-US"/>
              <a:t>07/30/26</a:t>
            </a:fld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6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90720" y="25909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贝多芬在失去听觉的情况下，仍然不停止工作，与命运抗争，我们的不良行为习惯难道就纠正不了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名人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B31C-8F3D-4188-BD79-D85EDFF69E0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51396-71E8-499E-9193-275654183C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666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40400" y="380880"/>
            <a:ext cx="745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出淤泥而不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濯清涟而不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2240" y="4537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F16-0C55-4CDC-BBD3-D285ACD158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A08CF-A36C-4456-AA4C-2D7BC9D14789}" type="datetime1">
              <a:rPr lang="en-US"/>
              <a:t>07/30/26</a:t>
            </a:fld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2716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034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09640" y="290520"/>
            <a:ext cx="48592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牢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校风：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文明    求实   勤学   进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学风：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礼貌   求实    勤思   奋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236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640" y="3809880"/>
            <a:ext cx="7848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树立意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我为滇中争光荣  滇中光荣我光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21F-353F-4FFD-85FD-16C5D23AF08D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241A3-2640-42E4-B635-067B4C3888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52:59Z</dcterms:modified>
  <cp:revision>2</cp:revision>
  <dc:subject>主题班会课件(分28大类): http://shop62905894.taobao.com</dc:subject>
  <dc:title>主题班会课件(分28大类): http://shop62905894.taobao.com</dc:title>
</cp:coreProperties>
</file>